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613-18C8-4B2E-91FF-0A53C3CC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676-AEB4-45C1-84AB-53DBA8E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B76-1361-4E45-A750-0816888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547-C883-4919-9E57-7E8F97B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293-DB4E-4E21-9E8D-D80BA46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899-B234-4ACA-ADD7-287F471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08C-D1D8-4A54-BF4B-884580C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5D6-DFDB-4C4F-B756-D3696B7A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FD6-D441-475B-9546-EA64EF4E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855-F156-41CE-8348-B31B7849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914-8AB1-4194-9D84-10EB481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913-594C-4014-869D-1ECDEAD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09B8-64BA-4DD2-97A9-40EFBE55D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links to web pages with your students and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Link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548640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1143000" y="3884760"/>
            <a:ext cx="121428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 your Library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52578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Lin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00080" y="3198960"/>
            <a:ext cx="914400" cy="3013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link, 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96252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114800"/>
            <a:ext cx="53352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a description, the web address, then click “Active” and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028840" y="2743200"/>
            <a:ext cx="114300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5029200"/>
            <a:ext cx="99036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867280"/>
            <a:ext cx="68580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2666880"/>
            <a:ext cx="30492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18:44Z</dcterms:created>
  <dc:creator>%$#@1</dc:creator>
  <dc:description/>
  <dc:language>en-US</dc:language>
  <cp:lastModifiedBy>%$#@1</cp:lastModifiedBy>
  <dcterms:modified xsi:type="dcterms:W3CDTF">2010-04-27T03:19:59Z</dcterms:modified>
  <cp:revision>2</cp:revision>
  <dc:subject/>
  <dc:title>Link Library</dc:title>
</cp:coreProperties>
</file>